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6873-6A80-4D61-A27F-D6FF6EE40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 speaking can be challenging but if you prepare and know a lot of information about your topic then things should go smooth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cards may help you remember what to s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1543-D83B-4C6E-B0EA-C67FF06D4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EFFE-1A41-4CA7-ABB2-12D3A3A33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D715-1F02-4CB8-8FA7-2CCB0A6E9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7A89-3BA4-48B4-8623-17B121A5B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2C6-8162-493C-91DB-E168CBBC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2F7-4098-46C6-9C5A-9E6F4047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D0D-89B5-48D5-9C5E-10B9BDBC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CA1-766D-409A-AF4C-44760847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1B7-BB83-48DF-9CF4-0CDD2A1C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37E-C330-43CD-B148-C1A1A7D6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A49-0B34-4DFA-855D-E6BCC7BE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162-A5D0-463B-BAC6-9B90E034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5E6-B9B4-450D-83DE-F5643298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AE5-6E16-4666-9DFE-A71268A4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A15-FA0D-4C69-9BE4-51475389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DF8-F0CF-45A4-ACC4-0FCFFB46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0D06-40B6-4DB9-A925-8929F6CCE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c Speak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h no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should I do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733920" y="5562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ee Cro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the content that you are present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ve team members quiz you on your topic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an outline of any and all of your ideas/ knowledge on the topic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pare note cards that cover main point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e your outline to write note cards that explain your project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umber the note cards to keep them in order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lace a title on the note card so you know the main idea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e your presentation and all extra materials completed ear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ke sure you know how long you are allowed to speak and plan enough material to speak for that amount of tim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actice in front of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mirr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your team memb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your par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e neat and c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ess nice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y extra attention to your personal hygie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your body toward the audi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 up stra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 to one side of the projector scre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eye cont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ress yourse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play enthusiasm, appear positive and interested in what you are say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ile and try to stay calm, know that your facial expressions are communicating with the audi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your hands to gesture or clasp them together behind your bac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eak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ud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wly enough that everyone in the audience understands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 language that is appropriate for you audience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y using pauses to emphasize a point or add impact to what you are saying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y on topi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23:55:38Z</dcterms:created>
  <dc:creator>gaelencross</dc:creator>
  <dc:description/>
  <dc:language>en-US</dc:language>
  <cp:lastModifiedBy>gaelencross</cp:lastModifiedBy>
  <dcterms:modified xsi:type="dcterms:W3CDTF">2011-08-02T01:59:22Z</dcterms:modified>
  <cp:revision>19</cp:revision>
  <dc:subject/>
  <dc:title>Public Speaking </dc:title>
</cp:coreProperties>
</file>